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B7A9-94B9-4CD8-805B-1F8BCBA2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7190-7494-4088-AA21-120387AF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CB92-92F2-4F06-ABF0-79AC1A0C4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D85C-0EF6-4D87-A0DA-FE5FB1C7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5801-2506-49A9-BDC7-8DC081C1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5B0E-C05E-4628-BC9F-4C3FAAE4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2E16-A9D5-4BA7-B67A-BAFC1EC7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4473-D7FA-4C68-8DA1-2AE08DC3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AD63-8CF0-4B01-86E1-7E185584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A12B-E7D6-4AEB-87C4-C1087F6C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2585-58E6-471F-BD16-86AF8342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2C3D-27B4-41A8-962D-BD7F95CB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469F-4643-4F27-82C2-6519000FC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Tahoma"/>
              </a:rPr>
              <a:t>A Good Presentation</a:t>
            </a:r>
            <a:endParaRPr b="1" lang="en-US" sz="5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ahoma"/>
              </a:rPr>
              <a:t>Mr Reddy</a:t>
            </a:r>
            <a:endParaRPr b="0" lang="en-US" sz="40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ahoma"/>
              </a:rPr>
              <a:t>Today’s talk</a:t>
            </a:r>
            <a:endParaRPr b="1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ahoma"/>
              </a:rPr>
              <a:t>Tell you what I’m going to tell you</a:t>
            </a:r>
            <a:endParaRPr b="0" lang="en-US" sz="4000" spc="-1" strike="noStrike">
              <a:solidFill>
                <a:srgbClr val="6633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ahoma"/>
              </a:rPr>
              <a:t>Tell you</a:t>
            </a:r>
            <a:endParaRPr b="0" lang="en-US" sz="4000" spc="-1" strike="noStrike">
              <a:solidFill>
                <a:srgbClr val="6633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ahoma"/>
              </a:rPr>
              <a:t>Tell you what I’ve told you</a:t>
            </a:r>
            <a:endParaRPr b="0" lang="en-US" sz="4000" spc="-1" strike="noStrike">
              <a:solidFill>
                <a:srgbClr val="663300"/>
              </a:solidFill>
              <a:latin typeface="Tahom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948360" y="5345280"/>
            <a:ext cx="192744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ahoma"/>
              </a:rPr>
              <a:t>Be positive about it</a:t>
            </a:r>
            <a:endParaRPr b="1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3300"/>
                </a:solidFill>
                <a:latin typeface="Tahoma"/>
              </a:rPr>
              <a:t>Imagine the applause</a:t>
            </a:r>
            <a:endParaRPr b="0" lang="en-US" sz="4000" spc="-1" strike="noStrike">
              <a:solidFill>
                <a:srgbClr val="6633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ahoma"/>
            </a:endParaRPr>
          </a:p>
          <a:p>
            <a:pPr marL="322200" indent="-322200">
              <a:spcBef>
                <a:spcPts val="10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3300"/>
                </a:solidFill>
                <a:latin typeface="Tahoma"/>
              </a:rPr>
              <a:t>Picture the audience cheering you</a:t>
            </a:r>
            <a:endParaRPr b="0" lang="en-US" sz="4000" spc="-1" strike="noStrike">
              <a:solidFill>
                <a:srgbClr val="6633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ahoma"/>
            </a:endParaRPr>
          </a:p>
          <a:p>
            <a:pPr marL="322200" indent="-322200">
              <a:spcBef>
                <a:spcPts val="10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3300"/>
                </a:solidFill>
                <a:latin typeface="Tahoma"/>
              </a:rPr>
              <a:t>Remember…your audience wants you to succeed.</a:t>
            </a:r>
            <a:endParaRPr b="0" lang="en-US" sz="4000" spc="-1" strike="noStrike">
              <a:solidFill>
                <a:srgbClr val="663300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164360" y="5184720"/>
            <a:ext cx="14619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ahoma"/>
              </a:rPr>
              <a:t>Rehearse</a:t>
            </a:r>
            <a:endParaRPr b="1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ahoma"/>
              </a:rPr>
              <a:t>Keep to time limit</a:t>
            </a:r>
            <a:endParaRPr b="0" lang="en-US" sz="4000" spc="-1" strike="noStrike">
              <a:solidFill>
                <a:srgbClr val="6633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ahoma"/>
              </a:rPr>
              <a:t>Know your subject</a:t>
            </a:r>
            <a:endParaRPr b="0" lang="en-US" sz="4000" spc="-1" strike="noStrike">
              <a:solidFill>
                <a:srgbClr val="6633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ahoma"/>
              </a:rPr>
              <a:t>When nerves get you</a:t>
            </a:r>
            <a:endParaRPr b="0" lang="en-US" sz="4000" spc="-1" strike="noStrike">
              <a:solidFill>
                <a:srgbClr val="6633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716960" y="3860640"/>
            <a:ext cx="90144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ahoma"/>
              </a:rPr>
              <a:t>Keep it simple</a:t>
            </a:r>
            <a:endParaRPr b="1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ahoma"/>
              </a:rPr>
              <a:t>Short sentences/bullet points</a:t>
            </a:r>
            <a:endParaRPr b="0" lang="en-US" sz="4400" spc="-1" strike="noStrike">
              <a:solidFill>
                <a:srgbClr val="6633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ahoma"/>
              </a:rPr>
              <a:t>Small amount of info per slide</a:t>
            </a:r>
            <a:endParaRPr b="0" lang="en-US" sz="4400" spc="-1" strike="noStrike">
              <a:solidFill>
                <a:srgbClr val="6633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ahoma"/>
              </a:rPr>
              <a:t>Dash of colour</a:t>
            </a:r>
            <a:endParaRPr b="0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5516640"/>
            <a:ext cx="1224000" cy="217440"/>
          </a:xfrm>
          <a:custGeom>
            <a:avLst/>
            <a:gdLst/>
            <a:ahLst/>
            <a:rect l="l" t="t" r="r" b="b"/>
            <a:pathLst>
              <a:path w="1757" h="614">
                <a:moveTo>
                  <a:pt x="970" y="4"/>
                </a:moveTo>
                <a:cubicBezTo>
                  <a:pt x="864" y="18"/>
                  <a:pt x="609" y="47"/>
                  <a:pt x="509" y="91"/>
                </a:cubicBezTo>
                <a:cubicBezTo>
                  <a:pt x="425" y="128"/>
                  <a:pt x="345" y="139"/>
                  <a:pt x="259" y="167"/>
                </a:cubicBezTo>
                <a:cubicBezTo>
                  <a:pt x="17" y="247"/>
                  <a:pt x="208" y="196"/>
                  <a:pt x="96" y="225"/>
                </a:cubicBezTo>
                <a:cubicBezTo>
                  <a:pt x="63" y="246"/>
                  <a:pt x="33" y="271"/>
                  <a:pt x="0" y="292"/>
                </a:cubicBezTo>
                <a:cubicBezTo>
                  <a:pt x="111" y="330"/>
                  <a:pt x="322" y="244"/>
                  <a:pt x="432" y="215"/>
                </a:cubicBezTo>
                <a:cubicBezTo>
                  <a:pt x="672" y="153"/>
                  <a:pt x="920" y="109"/>
                  <a:pt x="1162" y="62"/>
                </a:cubicBezTo>
                <a:cubicBezTo>
                  <a:pt x="1298" y="36"/>
                  <a:pt x="1439" y="32"/>
                  <a:pt x="1574" y="4"/>
                </a:cubicBezTo>
                <a:cubicBezTo>
                  <a:pt x="1593" y="7"/>
                  <a:pt x="1618" y="0"/>
                  <a:pt x="1632" y="14"/>
                </a:cubicBezTo>
                <a:cubicBezTo>
                  <a:pt x="1648" y="30"/>
                  <a:pt x="1599" y="31"/>
                  <a:pt x="1565" y="43"/>
                </a:cubicBezTo>
                <a:cubicBezTo>
                  <a:pt x="1399" y="104"/>
                  <a:pt x="1455" y="89"/>
                  <a:pt x="1306" y="148"/>
                </a:cubicBezTo>
                <a:cubicBezTo>
                  <a:pt x="1223" y="181"/>
                  <a:pt x="1142" y="220"/>
                  <a:pt x="1056" y="244"/>
                </a:cubicBezTo>
                <a:cubicBezTo>
                  <a:pt x="1021" y="254"/>
                  <a:pt x="984" y="260"/>
                  <a:pt x="950" y="273"/>
                </a:cubicBezTo>
                <a:cubicBezTo>
                  <a:pt x="844" y="312"/>
                  <a:pt x="741" y="361"/>
                  <a:pt x="634" y="398"/>
                </a:cubicBezTo>
                <a:cubicBezTo>
                  <a:pt x="551" y="427"/>
                  <a:pt x="466" y="453"/>
                  <a:pt x="384" y="484"/>
                </a:cubicBezTo>
                <a:cubicBezTo>
                  <a:pt x="358" y="494"/>
                  <a:pt x="332" y="502"/>
                  <a:pt x="307" y="513"/>
                </a:cubicBezTo>
                <a:cubicBezTo>
                  <a:pt x="274" y="528"/>
                  <a:pt x="211" y="561"/>
                  <a:pt x="211" y="561"/>
                </a:cubicBezTo>
                <a:cubicBezTo>
                  <a:pt x="419" y="614"/>
                  <a:pt x="262" y="578"/>
                  <a:pt x="778" y="561"/>
                </a:cubicBezTo>
                <a:cubicBezTo>
                  <a:pt x="1095" y="551"/>
                  <a:pt x="1435" y="523"/>
                  <a:pt x="1757" y="523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ahoma"/>
              </a:rPr>
              <a:t>Summary</a:t>
            </a:r>
            <a:endParaRPr b="1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ahoma"/>
              </a:rPr>
              <a:t>Be positive</a:t>
            </a:r>
            <a:endParaRPr b="0" lang="en-US" sz="4400" spc="-1" strike="noStrike">
              <a:solidFill>
                <a:srgbClr val="6633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ahoma"/>
              </a:rPr>
              <a:t>Rehearse</a:t>
            </a:r>
            <a:endParaRPr b="0" lang="en-US" sz="4400" spc="-1" strike="noStrike">
              <a:solidFill>
                <a:srgbClr val="6633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ahoma"/>
              </a:rPr>
              <a:t>Keep it simple</a:t>
            </a:r>
            <a:endParaRPr b="0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84720" y="5084640"/>
            <a:ext cx="264348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Tahoma"/>
              </a:rPr>
              <a:t>Any questions?</a:t>
            </a:r>
            <a:endParaRPr b="1" lang="en-US" sz="5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17:17:50Z</dcterms:created>
  <dc:creator>Bruno Reddy</dc:creator>
  <dc:description/>
  <dc:language>en-US</dc:language>
  <cp:lastModifiedBy>Bruno Reddy</cp:lastModifiedBy>
  <dcterms:modified xsi:type="dcterms:W3CDTF">2005-04-14T17:30:52Z</dcterms:modified>
  <cp:revision>3</cp:revision>
  <dc:subject/>
  <dc:title>A Good Presentation</dc:title>
</cp:coreProperties>
</file>